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892F-ED57-4D9A-A0CE-4C36A397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C61-9F4C-4ACF-8A3D-9345312C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4CF2-DE06-463D-82F3-A7621EE7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gible outcome of the CoP particption was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umerous Earth Observations that are available and in principle useful for air quality applications such as informing the public and enforcing AQ standards. However, connecting a user to the right observations or models is accompanied by an array of hurd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Common Infrastructure allows the reuse of observations and models for multiple purpos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n the narrow application of Wildfire smoke, observations and models can be re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umerous Earth Observations that are available and in principle useful for air quality applications such as informing the public and enforcing AQ standards. However, connecting a user to the right observations or models is accompanied by an array of hurd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Common Infrastructure allows the reuse of observations and models for multiple purpos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n the narrow application of Wildfire smoke, observations and models can be re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umerous Earth Observations that are available and in principle useful for air quality applications such as informing the public and enforcing AQ standards. However, connecting a user to the right observations or models is accompanied by an array of hurd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Common Infrastructure allows the reuse of observations and models for multiple purpos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n the narrow application of Wildfire smoke, observations and models can be re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AF3-1995-4F3B-8C0C-67956658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236-6709-42D4-B1D2-425CF1A2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245-AE6C-4488-8322-DF6E081E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541-DFDE-4F46-9EED-3B274752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2AB-D63F-42C7-8CCC-65D7E8CB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8D3-8698-4B08-816B-56871B71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E58-8631-4D6C-80DB-EA6B316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D3E-56B8-44C6-A281-DEFEFE3E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9DF-7892-4AF8-A97E-5593C68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383-D40D-4EEF-B273-5864B136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C3C-DF87-4C75-9258-0E598F1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3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03E-FABE-4333-A299-6AB6326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0F9B-EFDA-474E-8F22-410BD8A4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husar@wustl.ed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rhusar@wustl.edu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EO Air Quality Community of Practice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Q CoP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Air Quality Projects | GEO Air Quality CoP.png"/>
          <p:cNvPicPr/>
          <p:nvPr/>
        </p:nvPicPr>
        <p:blipFill>
          <a:blip r:embed="rId1"/>
          <a:srcRect l="0" t="0" r="0" b="80887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7200" y="594360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of Contact: Rudolf Husar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husar@wustl.edu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209680" y="3581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fit into GEO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has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-09-01b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chitecture Implementation Pilot (AIP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nd Using the GEOSS Common Infrastructure (GC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Screen shot 2009-10-26 at 9.13.42 PM.png"/>
          <p:cNvPicPr/>
          <p:nvPr/>
        </p:nvPicPr>
        <p:blipFill>
          <a:blip r:embed="rId1"/>
          <a:srcRect l="10687" t="16667" r="57151" b="72992"/>
          <a:stretch/>
        </p:blipFill>
        <p:spPr>
          <a:xfrm>
            <a:off x="2438280" y="4038480"/>
            <a:ext cx="654048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11" descr="Screen shot 2009-10-26 at 9.13.42 PM.png"/>
          <p:cNvPicPr/>
          <p:nvPr/>
        </p:nvPicPr>
        <p:blipFill>
          <a:blip r:embed="rId2"/>
          <a:srcRect l="0" t="36810" r="52088" b="42002"/>
          <a:stretch/>
        </p:blipFill>
        <p:spPr>
          <a:xfrm>
            <a:off x="2438280" y="1447920"/>
            <a:ext cx="609624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Box 5"/>
          <p:cNvSpPr/>
          <p:nvPr/>
        </p:nvSpPr>
        <p:spPr>
          <a:xfrm>
            <a:off x="3581280" y="3276720"/>
            <a:ext cx="3733920" cy="520560"/>
          </a:xfrm>
          <a:prstGeom prst="rect">
            <a:avLst/>
          </a:prstGeom>
          <a:solidFill>
            <a:srgbClr val="cccccc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arch Fac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057400" y="40384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267080" y="40384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6781680" y="4038480"/>
            <a:ext cx="1067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8001000" y="403848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259092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6248520" y="251460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21"/>
          <p:cNvCxnSpPr>
            <a:stCxn id="154" idx="1"/>
            <a:endCxn id="155" idx="0"/>
          </p:cNvCxnSpPr>
          <p:nvPr/>
        </p:nvCxnSpPr>
        <p:spPr>
          <a:xfrm flipH="1">
            <a:off x="2894760" y="3537360"/>
            <a:ext cx="68652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Straight Arrow Connector 22"/>
          <p:cNvCxnSpPr>
            <a:stCxn id="154" idx="0"/>
            <a:endCxn id="159" idx="2"/>
          </p:cNvCxnSpPr>
          <p:nvPr/>
        </p:nvCxnSpPr>
        <p:spPr>
          <a:xfrm flipH="1" flipV="1">
            <a:off x="3657240" y="2990520"/>
            <a:ext cx="17913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Straight Arrow Connector 23"/>
          <p:cNvCxnSpPr>
            <a:stCxn id="154" idx="3"/>
            <a:endCxn id="158" idx="0"/>
          </p:cNvCxnSpPr>
          <p:nvPr/>
        </p:nvCxnSpPr>
        <p:spPr>
          <a:xfrm>
            <a:off x="7314840" y="3538080"/>
            <a:ext cx="12582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Straight Arrow Connector 24"/>
          <p:cNvCxnSpPr>
            <a:stCxn id="154" idx="3"/>
            <a:endCxn id="157" idx="0"/>
          </p:cNvCxnSpPr>
          <p:nvPr/>
        </p:nvCxnSpPr>
        <p:spPr>
          <a:xfrm>
            <a:off x="7315200" y="353808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25"/>
          <p:cNvCxnSpPr>
            <a:stCxn id="154" idx="2"/>
            <a:endCxn id="156" idx="0"/>
          </p:cNvCxnSpPr>
          <p:nvPr/>
        </p:nvCxnSpPr>
        <p:spPr>
          <a:xfrm flipH="1">
            <a:off x="5105160" y="3800160"/>
            <a:ext cx="343440" cy="23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42"/>
          <p:cNvCxnSpPr>
            <a:stCxn id="154" idx="0"/>
            <a:endCxn id="160" idx="2"/>
          </p:cNvCxnSpPr>
          <p:nvPr/>
        </p:nvCxnSpPr>
        <p:spPr>
          <a:xfrm flipV="1">
            <a:off x="5447160" y="2914560"/>
            <a:ext cx="1639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" name="TextBox 17"/>
          <p:cNvSpPr/>
          <p:nvPr/>
        </p:nvSpPr>
        <p:spPr>
          <a:xfrm>
            <a:off x="1066680" y="6324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is facilitated by the GEOSS Common 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304920" y="1981080"/>
            <a:ext cx="1828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7" descr=""/>
          <p:cNvPicPr/>
          <p:nvPr/>
        </p:nvPicPr>
        <p:blipFill>
          <a:blip r:embed="rId1"/>
          <a:stretch/>
        </p:blipFill>
        <p:spPr>
          <a:xfrm>
            <a:off x="2514600" y="1946160"/>
            <a:ext cx="5477040" cy="2909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2"/>
          <p:cNvSpPr/>
          <p:nvPr/>
        </p:nvSpPr>
        <p:spPr>
          <a:xfrm>
            <a:off x="1285920" y="295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Heal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327320" y="6238800"/>
            <a:ext cx="6705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281240" y="826920"/>
            <a:ext cx="7046280" cy="1419480"/>
            <a:chOff x="1281240" y="826920"/>
            <a:chExt cx="7046280" cy="1419480"/>
          </a:xfrm>
        </p:grpSpPr>
        <p:sp>
          <p:nvSpPr>
            <p:cNvPr id="173" name="Text Box 13"/>
            <p:cNvSpPr/>
            <p:nvPr/>
          </p:nvSpPr>
          <p:spPr>
            <a:xfrm>
              <a:off x="1357200" y="838080"/>
              <a:ext cx="1447560" cy="70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ing the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3132000" y="826920"/>
              <a:ext cx="1294920" cy="703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forcing 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4922640" y="838080"/>
              <a:ext cx="1371240" cy="703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mispheric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128124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 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2979720" y="15127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ulatory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1"/>
            <p:cNvSpPr/>
            <p:nvPr/>
          </p:nvSpPr>
          <p:spPr>
            <a:xfrm>
              <a:off x="4846320" y="154260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icy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6827760" y="826920"/>
              <a:ext cx="1447200" cy="131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mospheric Com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6804000" y="148896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 &amp; 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801800" y="516744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Text Box 4"/>
          <p:cNvSpPr/>
          <p:nvPr/>
        </p:nvSpPr>
        <p:spPr>
          <a:xfrm>
            <a:off x="1725480" y="48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639880" y="5195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087800" y="5408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450120" y="4786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154480" y="5195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5307120" y="550080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10" descr=""/>
          <p:cNvPicPr/>
          <p:nvPr/>
        </p:nvPicPr>
        <p:blipFill>
          <a:blip r:embed="rId4"/>
          <a:stretch/>
        </p:blipFill>
        <p:spPr>
          <a:xfrm>
            <a:off x="6450120" y="5091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Picture 11" descr=""/>
          <p:cNvPicPr/>
          <p:nvPr/>
        </p:nvPicPr>
        <p:blipFill>
          <a:blip r:embed="rId5"/>
          <a:stretch/>
        </p:blipFill>
        <p:spPr>
          <a:xfrm>
            <a:off x="4164120" y="5713560"/>
            <a:ext cx="1006200" cy="61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12" descr=""/>
          <p:cNvPicPr/>
          <p:nvPr/>
        </p:nvPicPr>
        <p:blipFill>
          <a:blip r:embed="rId6"/>
          <a:stretch/>
        </p:blipFill>
        <p:spPr>
          <a:xfrm>
            <a:off x="2868480" y="550080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Line 33"/>
          <p:cNvSpPr/>
          <p:nvPr/>
        </p:nvSpPr>
        <p:spPr>
          <a:xfrm flipV="1">
            <a:off x="2897280" y="4672080"/>
            <a:ext cx="942840" cy="36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6"/>
          <p:cNvSpPr/>
          <p:nvPr/>
        </p:nvSpPr>
        <p:spPr>
          <a:xfrm flipV="1">
            <a:off x="3878280" y="4998960"/>
            <a:ext cx="307800" cy="27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7"/>
          <p:cNvSpPr/>
          <p:nvPr/>
        </p:nvSpPr>
        <p:spPr>
          <a:xfrm flipV="1">
            <a:off x="4667400" y="503712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 flipH="1" flipV="1">
            <a:off x="5340240" y="4923000"/>
            <a:ext cx="270000" cy="21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 flipV="1">
            <a:off x="5533920" y="4748040"/>
            <a:ext cx="789120" cy="17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1"/>
          <p:cNvSpPr/>
          <p:nvPr/>
        </p:nvSpPr>
        <p:spPr>
          <a:xfrm flipV="1">
            <a:off x="5954760" y="1679040"/>
            <a:ext cx="7700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 flipH="1" flipV="1">
            <a:off x="2798280" y="1639440"/>
            <a:ext cx="65412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3"/>
          <p:cNvSpPr/>
          <p:nvPr/>
        </p:nvSpPr>
        <p:spPr>
          <a:xfrm flipV="1">
            <a:off x="4896000" y="1679040"/>
            <a:ext cx="193680" cy="65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5"/>
          <p:cNvSpPr/>
          <p:nvPr/>
        </p:nvSpPr>
        <p:spPr>
          <a:xfrm flipH="1" flipV="1">
            <a:off x="4416120" y="1676520"/>
            <a:ext cx="191880" cy="71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33"/>
          <p:cNvSpPr/>
          <p:nvPr/>
        </p:nvSpPr>
        <p:spPr>
          <a:xfrm>
            <a:off x="3322800" y="2928960"/>
            <a:ext cx="2536560" cy="1065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3350880" y="23335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3645000" y="42721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7"/>
          <p:cNvSpPr/>
          <p:nvPr/>
        </p:nvSpPr>
        <p:spPr>
          <a:xfrm>
            <a:off x="6413760" y="42721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O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7"/>
          <p:cNvSpPr/>
          <p:nvPr/>
        </p:nvSpPr>
        <p:spPr>
          <a:xfrm>
            <a:off x="6446880" y="362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7"/>
          <p:cNvSpPr/>
          <p:nvPr/>
        </p:nvSpPr>
        <p:spPr>
          <a:xfrm>
            <a:off x="6436800" y="292896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ards,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6431040" y="233352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.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304920" y="316224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3124080" y="2286000"/>
            <a:ext cx="6019920" cy="533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User Requirement Registry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ontent Placeholder 4" descr="GEOSS URR Brochure.png"/>
          <p:cNvPicPr/>
          <p:nvPr/>
        </p:nvPicPr>
        <p:blipFill>
          <a:blip r:embed="rId1"/>
          <a:srcRect l="-13260" t="0" r="-13260" b="0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914400" y="3962520"/>
            <a:ext cx="7543800" cy="2590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429000" y="5943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User Requirement Registry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n EPA Contract with 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by Analyst Consul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role for the AQ CoP in contributing to UR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7" descr=""/>
          <p:cNvPicPr/>
          <p:nvPr/>
        </p:nvPicPr>
        <p:blipFill>
          <a:blip r:embed="rId1"/>
          <a:stretch/>
        </p:blipFill>
        <p:spPr>
          <a:xfrm>
            <a:off x="2505240" y="1946160"/>
            <a:ext cx="5486400" cy="291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2"/>
          <p:cNvSpPr/>
          <p:nvPr/>
        </p:nvSpPr>
        <p:spPr>
          <a:xfrm>
            <a:off x="1285920" y="295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Heal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1327320" y="6238800"/>
            <a:ext cx="6705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9"/>
          <p:cNvGrpSpPr/>
          <p:nvPr/>
        </p:nvGrpSpPr>
        <p:grpSpPr>
          <a:xfrm>
            <a:off x="1281240" y="826920"/>
            <a:ext cx="7046280" cy="1419480"/>
            <a:chOff x="1281240" y="826920"/>
            <a:chExt cx="7046280" cy="1419480"/>
          </a:xfrm>
        </p:grpSpPr>
        <p:sp>
          <p:nvSpPr>
            <p:cNvPr id="59" name="Text Box 13"/>
            <p:cNvSpPr/>
            <p:nvPr/>
          </p:nvSpPr>
          <p:spPr>
            <a:xfrm>
              <a:off x="1357200" y="838080"/>
              <a:ext cx="1447560" cy="70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ing the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132000" y="826920"/>
              <a:ext cx="1294920" cy="703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forcing 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4922640" y="838080"/>
              <a:ext cx="1371240" cy="703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mispheric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128124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 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2979720" y="15127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ulatory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1"/>
            <p:cNvSpPr/>
            <p:nvPr/>
          </p:nvSpPr>
          <p:spPr>
            <a:xfrm>
              <a:off x="4846320" y="154260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icy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6827760" y="826920"/>
              <a:ext cx="1447200" cy="131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mospheric Com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5"/>
            <p:cNvSpPr/>
            <p:nvPr/>
          </p:nvSpPr>
          <p:spPr>
            <a:xfrm>
              <a:off x="6804000" y="148896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 &amp; 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801800" y="516744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 Box 4"/>
          <p:cNvSpPr/>
          <p:nvPr/>
        </p:nvSpPr>
        <p:spPr>
          <a:xfrm>
            <a:off x="1725480" y="48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639880" y="5195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087800" y="5408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450120" y="4786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154480" y="5195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307120" y="550080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6450120" y="5091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11" descr=""/>
          <p:cNvPicPr/>
          <p:nvPr/>
        </p:nvPicPr>
        <p:blipFill>
          <a:blip r:embed="rId5"/>
          <a:stretch/>
        </p:blipFill>
        <p:spPr>
          <a:xfrm>
            <a:off x="4164120" y="5713560"/>
            <a:ext cx="1006200" cy="61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2" descr=""/>
          <p:cNvPicPr/>
          <p:nvPr/>
        </p:nvPicPr>
        <p:blipFill>
          <a:blip r:embed="rId6"/>
          <a:stretch/>
        </p:blipFill>
        <p:spPr>
          <a:xfrm>
            <a:off x="2868480" y="550080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Line 33"/>
          <p:cNvSpPr/>
          <p:nvPr/>
        </p:nvSpPr>
        <p:spPr>
          <a:xfrm flipV="1">
            <a:off x="2897280" y="4672080"/>
            <a:ext cx="942840" cy="36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 flipV="1">
            <a:off x="3878280" y="4998960"/>
            <a:ext cx="307800" cy="27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 flipV="1">
            <a:off x="4667400" y="503712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 flipH="1" flipV="1">
            <a:off x="5340240" y="4923000"/>
            <a:ext cx="270000" cy="21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 flipH="1" flipV="1">
            <a:off x="5533920" y="4748040"/>
            <a:ext cx="789120" cy="17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 flipV="1">
            <a:off x="5954760" y="1679040"/>
            <a:ext cx="7700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 flipH="1" flipV="1">
            <a:off x="2798280" y="1639440"/>
            <a:ext cx="65412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 flipV="1">
            <a:off x="4896000" y="1679040"/>
            <a:ext cx="193680" cy="65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 flipH="1" flipV="1">
            <a:off x="4416120" y="1676520"/>
            <a:ext cx="191880" cy="71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3"/>
          <p:cNvSpPr/>
          <p:nvPr/>
        </p:nvSpPr>
        <p:spPr>
          <a:xfrm>
            <a:off x="3322800" y="2928960"/>
            <a:ext cx="2536560" cy="1065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3350880" y="23335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3645000" y="42721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1"/>
          <p:cNvSpPr/>
          <p:nvPr/>
        </p:nvSpPr>
        <p:spPr>
          <a:xfrm>
            <a:off x="304920" y="316224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7" descr=""/>
          <p:cNvPicPr/>
          <p:nvPr/>
        </p:nvPicPr>
        <p:blipFill>
          <a:blip r:embed="rId1"/>
          <a:stretch/>
        </p:blipFill>
        <p:spPr>
          <a:xfrm>
            <a:off x="2505240" y="1946160"/>
            <a:ext cx="5486400" cy="29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1285920" y="295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Heal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327320" y="6238800"/>
            <a:ext cx="6705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281240" y="826920"/>
            <a:ext cx="7046280" cy="1419480"/>
            <a:chOff x="1281240" y="826920"/>
            <a:chExt cx="7046280" cy="1419480"/>
          </a:xfrm>
        </p:grpSpPr>
        <p:sp>
          <p:nvSpPr>
            <p:cNvPr id="94" name="Text Box 13"/>
            <p:cNvSpPr/>
            <p:nvPr/>
          </p:nvSpPr>
          <p:spPr>
            <a:xfrm>
              <a:off x="1357200" y="838080"/>
              <a:ext cx="1447560" cy="70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ing the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132000" y="826920"/>
              <a:ext cx="1294920" cy="703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forcing 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4922640" y="838080"/>
              <a:ext cx="1371240" cy="703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mispheric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9"/>
            <p:cNvSpPr/>
            <p:nvPr/>
          </p:nvSpPr>
          <p:spPr>
            <a:xfrm>
              <a:off x="128124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 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2979720" y="15127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ulatory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>
              <a:off x="4846320" y="154260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icy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6827760" y="826920"/>
              <a:ext cx="1447200" cy="1313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mospheric Com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6804000" y="148896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 &amp; 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801800" y="516744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 Box 4"/>
          <p:cNvSpPr/>
          <p:nvPr/>
        </p:nvSpPr>
        <p:spPr>
          <a:xfrm>
            <a:off x="1725480" y="48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639880" y="5195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087800" y="5408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450120" y="4786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154480" y="5195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5307120" y="550080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6450120" y="5091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5"/>
          <a:stretch/>
        </p:blipFill>
        <p:spPr>
          <a:xfrm>
            <a:off x="4164120" y="5713560"/>
            <a:ext cx="1006200" cy="61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12" descr=""/>
          <p:cNvPicPr/>
          <p:nvPr/>
        </p:nvPicPr>
        <p:blipFill>
          <a:blip r:embed="rId6"/>
          <a:stretch/>
        </p:blipFill>
        <p:spPr>
          <a:xfrm>
            <a:off x="2868480" y="550080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Line 33"/>
          <p:cNvSpPr/>
          <p:nvPr/>
        </p:nvSpPr>
        <p:spPr>
          <a:xfrm flipV="1">
            <a:off x="2897280" y="4672080"/>
            <a:ext cx="942840" cy="36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 flipV="1">
            <a:off x="3878280" y="4998960"/>
            <a:ext cx="307800" cy="27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4667400" y="5037120"/>
            <a:ext cx="0" cy="30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 flipH="1" flipV="1">
            <a:off x="5340240" y="4923000"/>
            <a:ext cx="270000" cy="21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"/>
          <p:cNvSpPr/>
          <p:nvPr/>
        </p:nvSpPr>
        <p:spPr>
          <a:xfrm flipH="1" flipV="1">
            <a:off x="5533920" y="4748040"/>
            <a:ext cx="789120" cy="17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 flipV="1">
            <a:off x="5954760" y="1679040"/>
            <a:ext cx="7700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 flipH="1" flipV="1">
            <a:off x="2798280" y="1639440"/>
            <a:ext cx="65412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V="1">
            <a:off x="4896000" y="1679040"/>
            <a:ext cx="193680" cy="65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5"/>
          <p:cNvSpPr/>
          <p:nvPr/>
        </p:nvSpPr>
        <p:spPr>
          <a:xfrm flipH="1" flipV="1">
            <a:off x="4416120" y="1676520"/>
            <a:ext cx="191880" cy="71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33"/>
          <p:cNvSpPr/>
          <p:nvPr/>
        </p:nvSpPr>
        <p:spPr>
          <a:xfrm>
            <a:off x="3322800" y="2928960"/>
            <a:ext cx="2536560" cy="1065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i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3350880" y="23335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3645000" y="42721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7"/>
          <p:cNvSpPr/>
          <p:nvPr/>
        </p:nvSpPr>
        <p:spPr>
          <a:xfrm>
            <a:off x="6413760" y="42721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O Clearing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7"/>
          <p:cNvSpPr/>
          <p:nvPr/>
        </p:nvSpPr>
        <p:spPr>
          <a:xfrm>
            <a:off x="6446880" y="362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Practices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7"/>
          <p:cNvSpPr/>
          <p:nvPr/>
        </p:nvSpPr>
        <p:spPr>
          <a:xfrm>
            <a:off x="6436800" y="292896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ards,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6431040" y="233352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.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1"/>
          <p:cNvSpPr/>
          <p:nvPr/>
        </p:nvSpPr>
        <p:spPr>
          <a:xfrm>
            <a:off x="304920" y="316224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 rot="16200000">
            <a:off x="-1252080" y="4071960"/>
            <a:ext cx="441936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operability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72624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4038480" y="4495680"/>
            <a:ext cx="22860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s Serv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C W*S, netCDF-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886200" y="2286000"/>
            <a:ext cx="2514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, Video, emai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8862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RSS/Atom, Social, Wik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909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7057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 flipH="1">
            <a:off x="1980360" y="2666520"/>
            <a:ext cx="252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Straight Arrow Connector 12"/>
          <p:cNvCxnSpPr/>
          <p:nvPr/>
        </p:nvCxnSpPr>
        <p:spPr>
          <a:xfrm flipH="1">
            <a:off x="2057040" y="5105520"/>
            <a:ext cx="2160" cy="653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Straight Arrow Connector 13"/>
          <p:cNvCxnSpPr/>
          <p:nvPr/>
        </p:nvCxnSpPr>
        <p:spPr>
          <a:xfrm flipH="1">
            <a:off x="2057040" y="3809520"/>
            <a:ext cx="216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Rectangle 2"/>
          <p:cNvSpPr/>
          <p:nvPr/>
        </p:nvSpPr>
        <p:spPr>
          <a:xfrm>
            <a:off x="533520" y="4572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for Connecting:</a:t>
            </a:r>
            <a:br>
              <a:rPr sz="2400"/>
            </a:b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Machin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Peo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Peo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c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AQ CoP Character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AQ Cop is 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project o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unded by 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entr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3200400"/>
            <a:ext cx="77724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: Use exis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sue original scope and mandate of th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e sharable resources fro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te in collabor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AQ CoP A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520" y="1143000"/>
            <a:ext cx="74674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 CoP Participation in GEO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-09-01b: Development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unities of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-09-01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Requirements for Earth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-09-01b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hitecture Implementation Pilot (A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-09-02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el Evalu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04920" y="320040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&amp; Coordination Activities, 2009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09: Session on AQ and GEOSS, ISRSE, Stresa, Italy (Hus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2009:  AQ Community Infrastructure, ESIP, Santa Barbara, CA, US (McC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 2009: AQ Side Meeting at GEO-VI Plenary, Wash. DC, US (McCabe, Kea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0: GEO Decision Support Concept Proposal (Fal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010: AQ Participation in the GEOSS AIP 2,3. (Falke, Robinson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: Telecons, Wiki workspace (Falke,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AQ CoP Active Particip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80880" y="1295280"/>
            <a:ext cx="830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Decker, FZ Julich; Oleg Goussev (DLR); Kari Hoijarvi, WUSTL; Erin Robinson, WUSTL..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or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Falke, NGC; Dave McCabe, EPA/CAC); Frank Lindsey, NASA; Rudy Husar, WUSTL; Martin Shulz, FZ Juelich ..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cy Executive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Foley, EPA; Terry Keating, EPA; Lawrence Friedl, NASA ..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of Contact: Rudolf Husar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husar@wustl.e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 AQ-CoP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nteraction through the open, participatory websi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Air Quality Projects | GEO Air Quality CoP.png"/>
          <p:cNvPicPr/>
          <p:nvPr/>
        </p:nvPicPr>
        <p:blipFill>
          <a:blip r:embed="rId1"/>
          <a:srcRect l="0" t="0" r="0" b="17241"/>
          <a:stretch/>
        </p:blipFill>
        <p:spPr>
          <a:xfrm>
            <a:off x="0" y="1447920"/>
            <a:ext cx="9144000" cy="3700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3733920" y="5410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4:47:50Z</dcterms:created>
  <dc:creator>s</dc:creator>
  <dc:description/>
  <dc:language>en-US</dc:language>
  <cp:lastModifiedBy>Rudy Husar</cp:lastModifiedBy>
  <cp:lastPrinted>2010-06-14T12:53:42Z</cp:lastPrinted>
  <dcterms:modified xsi:type="dcterms:W3CDTF">2010-07-21T17:12:25Z</dcterms:modified>
  <cp:revision>190</cp:revision>
  <dc:subject/>
  <dc:title>Slide 1</dc:title>
</cp:coreProperties>
</file>